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53889A-5A63-4E07-9155-5EDD484C1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F13735-45E7-4433-9413-2DB6CA906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45C12D-BCBF-4FF1-9FCE-527DBA71DDC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C2B50E-DD8C-4482-B1DA-617A212B6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20E13F-A6A5-4759-B3A6-38E976D77D7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C78722-6C45-4AF1-85EA-C265950B6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FE92DF-0EFF-4F32-923B-0E57BBDEDD1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B72CB3-2724-4855-A146-8ECF2B69E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F6BAEB-A22A-4603-9869-6694AB54FA8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77F9F4-6871-49D7-B5B7-B08FC7C5F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DB2307-FE01-49A2-9AAF-510304D5935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2C5B50-47DE-4202-9BC8-109E88C65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978490-97D4-40A8-9B7C-92F08EC1603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38A44F-69C6-4130-A6D9-F65780F43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2B1292-0385-42CE-9373-9AFE2625128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684C54-33A7-4FE2-B183-CFA897181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828366-3F50-466A-8F23-7444C66BC90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0A4C28-0B83-4A21-BFDC-509C07565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1CBE84-5434-4AA4-BF34-9301CB20AA6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67D4BA-79B5-44D4-80A2-72A0821DA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9597E6-5863-4021-8043-FA43AC4C451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5F762D-FB12-45B0-B3E9-65A266AA7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4E94B1-435E-4540-BD3D-2E43259D490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88E80F-E322-4BE2-851C-772843A82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33960E-40BC-41B1-B956-C4D2751D79F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D0112F-729B-4438-9282-A4FBD5EAC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6B03BA-93DB-40BB-AF52-7577FAF9D79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1ADB60-24D5-469D-B0A8-BB9F77A10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spaço Reservado para Rodapé 3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ço Reservado para Número de Slid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BC499C-2EDE-4A15-B8BB-6B5D3582735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6192C7-8E9D-4C52-91DD-119EA22C4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quencia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ram a interação entre os objetos através de raias que são colocadas sempre à direita de cada novo objeto, as mensagens para cada objeto seguem uma ordem vertical de cima para baixo, com isso a clareza dessas mensagens é evid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CAEB72-E396-4AA3-9C7A-BB180E85FEF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12E7EB-CF1F-447D-87B0-4B6CBC242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quencia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ram a interação entre os objetos através de raias que são colocadas sempre à direita de cada novo objeto, as mensagens para cada objeto seguem uma ordem vertical de cima para baixo, com isso a clareza dessas mensagens é evid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E2EBC3-2D72-42A6-9C7F-A5706586927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280162-72F7-4D71-833C-479ECFE30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quencia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ram a interação entre os objetos através de raias que são colocadas sempre à direita de cada novo objeto, as mensagens para cada objeto seguem uma ordem vertical de cima para baixo, com isso a clareza dessas mensagens é evid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97525D-C126-4558-A47F-82C480F27A7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2BF32A-3145-4E2D-8708-9DD3E9D05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A55D78-AF89-4539-8629-A21AE02279C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763DBB-6867-45A7-B2A6-345B21590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quencia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ram a interação entre os objetos através de raias que são colocadas sempre à direita de cada novo objeto, as mensagens para cada objeto seguem uma ordem vertical de cima para baixo, com isso a clareza dessas mensagens é evid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DFBE97-5B71-404F-B024-782B87D620C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ACCF69-9823-44C9-9B96-9E6AF9EDA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DAE981-8D94-4F56-BC93-B8C8C19531F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1AFDE6-60B0-4DC1-86A3-ECD43F07B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E96D9A-EE88-490F-9C23-188B8CE85D2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ço Reservado para Rodapé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5/04/2011 Professor Leomir J. Borba-  professor.leomir@gmail.com –http: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219-FD61-499A-96E8-DB575662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C2A-6874-4D8E-8DB5-E63AACC5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521-9CA4-4138-A17F-A3B89B36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676-8C99-4717-B993-1063E8E6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D4F-F17E-49A3-8F2C-174EB9A8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4BD-E6E1-4237-9D5D-A9D0106B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698-24AD-4E30-AC0B-E85BA6BC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867-B394-43CD-9104-7E230B90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364-FF75-4918-8685-4E39A777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026-83A0-43BA-9FC7-E2593F81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458-A981-4FC6-8AE2-CAF4BEB9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C98-EA21-428A-BA15-F6EDAF10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E48E-B268-48BF-8D9C-227E6DD35F36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6ED1-0801-41BE-A313-0953E59B4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1B2D-1E22-4945-A0B4-F46795665380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96FF-0777-4989-A91E-9A7F59600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SENVOLVIMENTO DE SISTEMAS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ula 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52" name="Espaço Reservado para Rodapé 7"/>
          <p:cNvSpPr/>
          <p:nvPr/>
        </p:nvSpPr>
        <p:spPr>
          <a:xfrm>
            <a:off x="61128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C6DA-D60A-4873-93A9-BBB8409E924D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D122-94EE-477A-99B0-E1A6AA204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08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rtões (Gates) -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m ser representados de duas for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ncontro da seta da mensagem no retângulo da ocorrência de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queno quadrado podendo ser atingido por uma mensagem ou a mensagem partindo d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332000" y="4076640"/>
            <a:ext cx="2638440" cy="2171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4500720" y="4508640"/>
            <a:ext cx="296208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083E-45F3-416E-B79C-400719B07147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1CF4-253C-49D3-BC06-0FE3D8C94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16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os combinados (FC) e Operadores de Interação (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Versões anteriores a UML 2.0 tinham dificuldades de modelar testes se-senão, laços ou processamentos paral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 partir da UML 2.0 dificuldades foram abordadas com uso de FC´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presentados por um retângulo que determina abrangência do fragmento de diagrama e uma subdivisão no canto superior esquerdo para identificar a descrição do fragmento combinado e seu operador de inter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2224-D443-4B9C-8416-8FA6E5848F92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8C41-F064-49A8-BE03-B27E43F3F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22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mais com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LT (Alternatives) – Define que fragmento combinado representa a escolha entre dois ou mais comport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843280" y="3429000"/>
            <a:ext cx="3889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8177-0C8A-4E62-98A7-4AF91980E584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84CF-73AD-4BAA-81EE-B6D405229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29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LT (Alternatives) – Fragmentos combinados tem ao menos uma divisão por linha trace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da uma dessas divisões é chamada de separador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ndo de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m fragmento combinado contem ao menos um operando de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t (Option) –Determina que o fragmento combinado representa uma escolha de comportamento que será ou não executado, não tendo escolha entre maiss de um comportamento possí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D278-552B-4678-A3D5-B2ED3C1B5023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92F5-7FDA-44F4-9D85-F49965E38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35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448812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44A9-4A7E-435A-AF6B-D4B10C6F4468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E248-AD4D-406B-9EEA-9F124AEA4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42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ar (Parallel) – Determina que fragmento combinado representa execução paralela de dois ou mais comport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2627280" y="3213000"/>
            <a:ext cx="35751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306F-B944-4F5C-BE56-A12FA7461D03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8D9A-73F6-4A17-BA3C-993743D04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50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oop (Looping) – Determina que o fragmento combinado representa um laço que pode se repetir varias vez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1835280" y="3068640"/>
            <a:ext cx="5545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0467-0E85-4C4C-80A2-4D36C166810E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633E-0775-4867-8195-96A783405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58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reak (Quebra) Determina quebra de execução normal do processo, usado principalmente para modelar tratamento de exce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1908000" y="3357720"/>
            <a:ext cx="561672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DC83-7A01-4787-8C8D-A65B09E0426D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189F-3263-4BEE-8371-F7CFD3E73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66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teração (OI)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ritical Region (Região critica) – Identifica operação atômica que não pode ser interrompida por outro processo até ser concluí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1333440" y="3213000"/>
            <a:ext cx="59515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2FB4-076F-4921-9F76-D61E5A87004C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7480-7618-4192-92BC-77C43AAC4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74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ço Reservado para Conteúdo 2"/>
          <p:cNvSpPr/>
          <p:nvPr/>
        </p:nvSpPr>
        <p:spPr>
          <a:xfrm>
            <a:off x="620640" y="206856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tado invariante – Restrição de tempo de execução aplicada aos participantes da Int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 ser usada para especificar diferentes tipos de restrições como valores ou atributos variáveis, estados internos ou ext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É um fragmento de interação e deve ser colocado sobre a linha d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5B08-C884-4087-94BB-2343FC095D08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0241-CBE9-429E-AB79-228293D79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56" name="Espaço Reservado para Rodapé 7"/>
          <p:cNvSpPr/>
          <p:nvPr/>
        </p:nvSpPr>
        <p:spPr>
          <a:xfrm>
            <a:off x="755640" y="6165720"/>
            <a:ext cx="82090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agrama de sequenci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sagens perdidas e Mensagens encont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agmentos de Op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corrências de Int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tões (G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agmentos combinados e operadores de Int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 Invar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92AC-1822-4484-B3A1-199130133305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14AE-4D31-4546-AB14-A0F6415D7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81" name="Espaço Reservado para Rodapé 7"/>
          <p:cNvSpPr/>
          <p:nvPr/>
        </p:nvSpPr>
        <p:spPr>
          <a:xfrm>
            <a:off x="755640" y="6165720"/>
            <a:ext cx="82090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39640" y="1844640"/>
            <a:ext cx="808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rcíc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base no Material de apoio, reúna os grupos e temas utilizados nos trabalhos anteriores  desenvolva os diagramas de sequencia relacionado a cada gru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ABDE-B61F-4203-BF1C-F5608F8D2D87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51D5-44AB-48CD-8596-71A12203E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ço Reservado para Rodapé 3"/>
          <p:cNvSpPr/>
          <p:nvPr/>
        </p:nvSpPr>
        <p:spPr>
          <a:xfrm>
            <a:off x="1476360" y="6237360"/>
            <a:ext cx="669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magem 15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611280" y="1197000"/>
          <a:ext cx="7921440" cy="4824360"/>
        </p:xfrm>
        <a:graphic>
          <a:graphicData uri="http://schemas.openxmlformats.org/drawingml/2006/table">
            <a:tbl>
              <a:tblPr/>
              <a:tblGrid>
                <a:gridCol w="780840"/>
                <a:gridCol w="7140600"/>
              </a:tblGrid>
              <a:tr h="201600">
                <a:tc gridSpan="2">
                  <a:txBody>
                    <a:bodyPr lIns="66240" rIns="66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BLIOGRAFIA BÁ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EDES, Gilleanes T.A.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L 2: Uma Abordagem Prática. 1ª Edição. São Paulo: Novatec, 20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ZLAWICK, Raul Sidnei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 Projeto de Sistemas de Informação Orientados a Objetos.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ª Edição. Rio de Janeiro: Campus, 20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ST, David; MCLAUGHLIN, Brett; POLLICE, Gary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a cabeça Análise &amp; Projeto Orientado ao Objeto.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ª Edição. Rio de Janeiro: Alta Books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 gridSpan="2">
                  <a:txBody>
                    <a:bodyPr lIns="66240" rIns="66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 gridSpan="2">
                  <a:txBody>
                    <a:bodyPr lIns="66240" rIns="66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BLIOGRAFIA COMPLEMEN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300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AUJO, Ricardo;  LIMA, Cardoso André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L Aplicada: Da teoria à implementação.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ª Edição.  Rio de Janeiro: Ciência Moderna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OCH, Grady; RUMBAUGH, James;, JACOBSON, Ivar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L: Guia do Usuário.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ª Edição. Rio de Janeiro: Campus, 200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MAN, Craig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ilizando UML e padrões: Uma introdução à análise e projeto orientados a objetos e ao desenvolvimento iterativo.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ª Edição. Porto Alegre: Bookman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A FILHO, Wilson de Pádua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enharia de Software: Fundamentos, métodos e padrões.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ª Edição. Rio de Janeiro: LTC, 20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VA, Nelson Peres da.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 Estruturas de Sistemas de Informação.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ª Edição. São Paulo: Érica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26F4-9C5B-492F-87C1-F3AEF030A258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BC08-D8D3-40DB-8E67-37763DCA6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62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nsagens perdidas e Mensagens Encont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r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nsagem enviada sem confirmação de receb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 não ter chegado ao destino ou ter sido enviada a um destino fora do dia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ncontr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cebimento de mensagem enviada por elemento desconhecido ou fora do diagrama ou ainda recebimento de uma mensagem que foi dada como perdida por tempo de espera exce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CCB2-276F-4E7A-A1ED-08A40E54D3F9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CD2A-EDDB-4441-8FE4-224F492DD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68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nsagens perdidas e Mensagens Encontradas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mbas são representadas por um circulo preench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Quando é mensagem perdida o circulo é atingido pela mensagem, quando é encontrada a mensagem  parte do circc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presentar troca de mensagens entre objetos localizados em máquinas diferentes e distantes, com comunicação realizada por protocolo de r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3BC2-A288-45D9-962B-1D81267DD911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B283-74D3-47D0-B1FD-8C8BEAA0D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74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ço Reservado para Conteúdo 2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210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9F69-A6F9-4AA0-9A46-B28CE60AE5D4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D1E7-488B-4417-997C-691CB94F0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81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rtas – Igual ao conceito explicado em diagrama de classes, representa um objeto no diagrama de sequencia contendo instancias das portas declaradas na classe a que ele pertence, dessa forma o objeto poderá ter mais de uma linha de vida permitindo representar mensagens internas e externas ao ob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s Portas s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representadas por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tângulos abaixo do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bjeto com linhas de vid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óp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496872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C8D0-FD7D-4137-A784-C51C0C0E6793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E1A0-873D-4CA5-A137-02F67BC0F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88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os de Interação – Noções abstratas de interação g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pesar de ser um fragmento de interação é considerado uma interação di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presentado por um retângulo que envolve toda a int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88764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A935-DDFC-4FD6-B670-194D8126F825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5E90-F278-49FD-BC9E-CD51D16BE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corrências de Interação – Principal vantagem do uso de fragmento de interação é referenciar outro diagrama, não detalhado no diagrama em questão, referencia-se por meio do oper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f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(abreviação de Referred) , passou a chamar-se Uso de interação a partir do UML 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476360" y="3357720"/>
            <a:ext cx="61563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ço Reservado para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5A1C-48D8-4AAB-ACAF-C936F6FD4175}" type="datetime">
              <a:rPr b="0" lang="pt-B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57C4-8C60-4740-887E-4BFBFB8CA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m 4" descr="logo-fmu.png"/>
          <p:cNvPicPr/>
          <p:nvPr/>
        </p:nvPicPr>
        <p:blipFill>
          <a:blip r:embed="rId1"/>
          <a:stretch/>
        </p:blipFill>
        <p:spPr>
          <a:xfrm>
            <a:off x="6156360" y="333360"/>
            <a:ext cx="2687760" cy="719280"/>
          </a:xfrm>
          <a:prstGeom prst="rect">
            <a:avLst/>
          </a:prstGeom>
          <a:ln w="0">
            <a:noFill/>
          </a:ln>
        </p:spPr>
      </p:pic>
      <p:sp>
        <p:nvSpPr>
          <p:cNvPr id="102" name="Espaço Reservado para Rodapé 7"/>
          <p:cNvSpPr/>
          <p:nvPr/>
        </p:nvSpPr>
        <p:spPr>
          <a:xfrm>
            <a:off x="684360" y="6165720"/>
            <a:ext cx="8208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Professor Leomir J. Borba-  professor.leomir@gmail.com –http://professorleomir.wordpre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ítulo 1"/>
          <p:cNvSpPr/>
          <p:nvPr/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Diagrama de seq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Conteúdo 2"/>
          <p:cNvSpPr/>
          <p:nvPr/>
        </p:nvSpPr>
        <p:spPr>
          <a:xfrm>
            <a:off x="468360" y="1916280"/>
            <a:ext cx="8229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corrências de Interação – contin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m ser uma simples chamada a outro fragmento de interação ou passar parâmetros e receber o re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ssociaçã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clus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tens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m ser referenciadas no diagrama de sequencia por meio de ocorrências de interação como forma de documentar um caso de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rtões (G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terface entre fragmentos, ponto de conexão para relacionar uma mensagem fora de uma ocorrência de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2:46:57Z</dcterms:created>
  <dc:creator>FedEx User</dc:creator>
  <dc:description/>
  <dc:language>en-US</dc:language>
  <cp:lastModifiedBy>Leo-Pc-I7</cp:lastModifiedBy>
  <dcterms:modified xsi:type="dcterms:W3CDTF">2012-11-05T04:17:44Z</dcterms:modified>
  <cp:revision>36</cp:revision>
  <dc:subject/>
  <dc:title>Slide 1</dc:title>
</cp:coreProperties>
</file>